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325-1E5A-4F97-8F21-745A744B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444-6D65-488E-93BF-C4EA589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B8D-DF4C-466E-806A-ED2874BD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3C5-E1AC-4B8F-999C-D5491577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5C6-1930-4A72-883E-530F6E8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0AE-9D02-4E0D-8948-0487A51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1F1-BFAF-47C5-B1CF-5ADDDAD3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9B6-332E-46C9-9927-F268770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FA7-5BD4-4577-A2AB-C662F36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808-BD37-4D7E-A972-6E7C4028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64B-555D-409A-BCB9-19F3636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0F2-7AA7-4EA9-8D15-FCFD8E5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171-C4AC-4761-8882-43E1EEEF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historyunstuffed.com/german-expressionism/" TargetMode="External"/><Relationship Id="rId2" Type="http://schemas.openxmlformats.org/officeDocument/2006/relationships/hyperlink" Target="http://www.germanculture.com.ua/library/weekly/gerhard_richter.htm" TargetMode="External"/><Relationship Id="rId3" Type="http://schemas.openxmlformats.org/officeDocument/2006/relationships/hyperlink" Target="http://www.baroquemusic.org/bqxjsbach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1371600"/>
            <a:ext cx="6670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erman Customs and Tradition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thistoryunstuffed.com/german-expressionis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rmanculture.com.ua/library/weekly/gerhard_richter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roquemusic.org/bqxjsbach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paightwoodgalleries.com/Media/Pechstein_Kopf_F14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list.co.uk/images/2008/11/27/richter-mustang-staffe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mpire.k12.ca.us/capistrano/Mike/capmusic/baroque/bach/bach.h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expressionism was more connected to relationships between art and society, politics and popular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vant-gar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sts tried to free themselves of state restri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reamed of utopian dreams involving individual creativity, but want to reach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rman expressionists were concerned about keeping their individuality while still relating to the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ressionism” in Germany meant “modern art”. There was a rejection of traditional Western conventions dating back to the Renaiss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152280"/>
            <a:ext cx="5753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man Expressionis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362320" y="15228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chstein Kop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Dresden in 19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work is full of art depicted reality and the actuality of pai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to work with artists such as Sigmar Polke, Konrad Fischer-Lu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with Polke and Fischer-Lueg, he created a group called the Capitalist Real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ist Realists were satirical, deriving ideas from print med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47920" y="22860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rhard Ric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28640" y="1852560"/>
            <a:ext cx="5886720" cy="31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14600" y="53352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ustang Staffe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on March 21st l685 in the town of Eise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offered the post of violinist in the small chamber orchestra of Duke Johann Er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high ideals for the church music of Germ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organizing all of the facilities of Mühlhau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h arrived at the small Court of Anhalt-Cöthen and received the rank of Kapellmeister. This was the highest rank given to any musician during the baroque ag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28800" y="152280"/>
            <a:ext cx="5105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hann Sebastian Ba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23856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133720" y="22860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rtrait of Ba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What did the Avant-garde artists try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When was Gerhard b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Free themselves from state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35:49Z</dcterms:created>
  <dc:creator>SCSadmin</dc:creator>
  <dc:description/>
  <dc:language>en-US</dc:language>
  <cp:lastModifiedBy>SCSadmin</cp:lastModifiedBy>
  <dcterms:modified xsi:type="dcterms:W3CDTF">2011-10-27T13:58:47Z</dcterms:modified>
  <cp:revision>12</cp:revision>
  <dc:subject/>
  <dc:title>Slide 1</dc:title>
</cp:coreProperties>
</file>